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4FC-B017-43F3-A7D0-A3155ADA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07A-A546-442D-97EF-07B8CC6C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A98-7593-40B9-8D62-D6D9C766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C19-C6A6-4FA8-8269-7D2BE33C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FB7B-3898-4CFD-B00F-F1FF3BC4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A407-B850-479D-BAB8-BA355F7D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7511-EBC1-4243-81D9-B6959B18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62EB-B75E-4C83-A73C-709BB4FE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47CD-0C10-424A-A6CB-E633DB79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2C1D-E295-4662-A56C-E5603242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CCF3-AB66-4BFC-8BA3-84045AE4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F02-3787-49A5-A163-B9F4371D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B86B-57DC-4611-B71F-6539822A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2238-67FF-4C9D-9D3A-2AE86350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A7A2-F98A-49B6-8CE2-5EBB1D8A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F91A-9F7E-48BD-811D-A6C7596F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A1E6-1716-4AC3-BE93-E08F1A23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A02FD-185F-461F-B971-F2B9E2FC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97EDE-042A-4155-82FB-C0145506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85EBC-9ED5-491F-B5C2-1EC95261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59A0-29E3-4BE6-92CC-A7DD7582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A74B0-E66B-4E84-916B-34F545A3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7AF-1810-4911-9118-7D0E9CF4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036B0-A1EE-49E1-9605-5E077B04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0522C-F7CE-460E-8AC1-B8A0CE5E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81E94-45F9-4F72-8B42-F6D237DD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78A6-C5B0-46CB-ACAC-BDE5B398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B5A14-F47E-4A74-8855-11840B46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D3554-5857-4A74-8C3B-E4E21F6E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B49A4-23EB-41C7-92ED-273956CE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D562-7D2D-439C-A745-8A32B004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1E2-C3A3-45A7-97E5-3A2CF77A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21F-AF44-4342-881E-9D8D58BE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1DF-0FC0-4753-83A8-2FA373E6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E85-0AF8-4859-8086-FDCA3136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E86-F9D1-43D2-99EC-EE507D00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B0FB-4C57-42EA-A262-462A0808B0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CE98-997A-432D-A848-560D4533A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14C9-61C6-4C6A-8A9B-C04DE08F1A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13ff"/>
                </a:solidFill>
                <a:latin typeface="Arial"/>
              </a:rPr>
              <a:t>IMMIGRANTS AND URBANIZ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666520" y="3428640"/>
            <a:ext cx="6324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 BECOMES A MELTING POT IN THE LATE 1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amp; EARLY 2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immigrants4"/>
          <p:cNvPicPr/>
          <p:nvPr/>
        </p:nvPicPr>
        <p:blipFill>
          <a:blip r:embed="rId1"/>
          <a:stretch/>
        </p:blipFill>
        <p:spPr>
          <a:xfrm>
            <a:off x="233280" y="3124080"/>
            <a:ext cx="2586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313ff"/>
                </a:solidFill>
                <a:latin typeface="Arial"/>
              </a:rPr>
              <a:t>ANGEL ISLAND, SAN FRANCIS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ans, primarily Chinese, arriving on the West Coast gained admission at Angel Island in the San Francisco B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ing was much harsher than Ellis Island as immigrants withstood tough questioning and long detentions in filth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angel island7"/>
          <p:cNvPicPr/>
          <p:nvPr/>
        </p:nvPicPr>
        <p:blipFill>
          <a:blip r:embed="rId1"/>
          <a:stretch/>
        </p:blipFill>
        <p:spPr>
          <a:xfrm>
            <a:off x="304920" y="1752480"/>
            <a:ext cx="4343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angelisland,%20chin%20detention%20bldg,%201910"/>
          <p:cNvPicPr/>
          <p:nvPr/>
        </p:nvPicPr>
        <p:blipFill>
          <a:blip r:embed="rId1"/>
          <a:stretch/>
        </p:blipFill>
        <p:spPr>
          <a:xfrm>
            <a:off x="533520" y="272880"/>
            <a:ext cx="8153280" cy="5747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828800" y="60958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NGEL ISLAND WAS CONSIDERED MORE HARSH THAN ELLIS I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313ff"/>
                </a:solidFill>
                <a:latin typeface="Arial"/>
              </a:rPr>
              <a:t>FRICTION DEVELOP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495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some immigrants tried to </a:t>
            </a: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assimi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American culture, others kept to themselves and created ethnic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tted to their own culture, but also trying hard to become Americans, many came to think of themselves as</a:t>
            </a: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 Italian-Americans, Polish-Americans, Chinese-American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native born Americans disliked the immigrants unfamiliar customs and languages – </a:t>
            </a: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fri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oon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hina_town"/>
          <p:cNvPicPr/>
          <p:nvPr/>
        </p:nvPicPr>
        <p:blipFill>
          <a:blip r:embed="rId1"/>
          <a:stretch/>
        </p:blipFill>
        <p:spPr>
          <a:xfrm>
            <a:off x="4724280" y="1600200"/>
            <a:ext cx="3733920" cy="4419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441972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atowns are found in many       major 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313ff"/>
                </a:solidFill>
                <a:latin typeface="Arial"/>
              </a:rPr>
              <a:t>IMMIGRANT RESTRIC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immigration increased, so did anti-immigrant feelings among 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Nativis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favoritism toward native-born Americans) led to anti-immigrant organizations  and governmental restrictions against im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882, Congress passed the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Chinese Exclusion 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ch limited Chinese immigration until 19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ChineseExclusionActPoster1883"/>
          <p:cNvPicPr/>
          <p:nvPr/>
        </p:nvPicPr>
        <p:blipFill>
          <a:blip r:embed="rId1"/>
          <a:stretch/>
        </p:blipFill>
        <p:spPr>
          <a:xfrm>
            <a:off x="609480" y="1371600"/>
            <a:ext cx="3645000" cy="4800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685800" y="6095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-Asian feelings included restaurant boyco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313ff"/>
                </a:solidFill>
                <a:latin typeface="Arial"/>
              </a:rPr>
              <a:t>SECTION 2: THE CHALLENGES OF URBANIZ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id urbanization occurred in the late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in the Northeast &amp; Mid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Most immigrants settled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cit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cause of the available jobs &amp; affordable ho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1910, immigrants made up more than half the population of 18 major American 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Clevel1"/>
          <p:cNvPicPr/>
          <p:nvPr/>
        </p:nvPicPr>
        <p:blipFill>
          <a:blip r:embed="rId1"/>
          <a:stretch/>
        </p:blipFill>
        <p:spPr>
          <a:xfrm>
            <a:off x="4648320" y="1752480"/>
            <a:ext cx="419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313ff"/>
                </a:solidFill>
                <a:latin typeface="Arial"/>
              </a:rPr>
              <a:t>MIGRATION FROM </a:t>
            </a:r>
            <a:br>
              <a:rPr sz="3800"/>
            </a:br>
            <a:r>
              <a:rPr b="1" lang="en-US" sz="3800" spc="-1" strike="noStrike">
                <a:solidFill>
                  <a:srgbClr val="1313ff"/>
                </a:solidFill>
                <a:latin typeface="Arial"/>
              </a:rPr>
              <a:t>COUNTRY TO C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id improvements in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farm techn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tractors, reapers, steel plows) made farming more efficient in the late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so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meant less lab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needed to do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rural people left for cities to find work- including almost ¼ million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African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african american migration 4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353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380880" y="541008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imination and segregation were often the reality for African Americans who migrated N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frican american migration"/>
          <p:cNvPicPr/>
          <p:nvPr/>
        </p:nvPicPr>
        <p:blipFill>
          <a:blip r:embed="rId1"/>
          <a:stretch/>
        </p:blipFill>
        <p:spPr>
          <a:xfrm>
            <a:off x="838080" y="250920"/>
            <a:ext cx="784872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313ff"/>
                </a:solidFill>
                <a:latin typeface="Arial"/>
              </a:rPr>
              <a:t>URBAN PROBLEM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in American cities in the late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early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inclu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1313ff"/>
                </a:solidFill>
                <a:uFillTx/>
                <a:latin typeface="Arial"/>
              </a:rPr>
              <a:t>Housi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vercrowded tenements were unsan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1313ff"/>
                </a:solidFill>
                <a:uFillTx/>
                <a:latin typeface="Arial"/>
              </a:rPr>
              <a:t>Sanitation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arbage was often not collected, polluted ai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riis4"/>
          <p:cNvPicPr/>
          <p:nvPr/>
        </p:nvPicPr>
        <p:blipFill>
          <a:blip r:embed="rId1"/>
          <a:stretch/>
        </p:blipFill>
        <p:spPr>
          <a:xfrm>
            <a:off x="4419720" y="1752480"/>
            <a:ext cx="4343400" cy="40100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4648320" y="57913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ous photographer </a:t>
            </a:r>
            <a:r>
              <a:rPr b="1" lang="en-US" sz="1800" spc="-1" strike="noStrike">
                <a:solidFill>
                  <a:srgbClr val="1313ff"/>
                </a:solidFill>
                <a:latin typeface="Arial"/>
              </a:rPr>
              <a:t>Jacob Ri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ptured the struggle of living in crowded ten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313ff"/>
                </a:solidFill>
                <a:latin typeface="Arial"/>
              </a:rPr>
              <a:t>URBAN PROBLEMS CONTINU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313ff"/>
                </a:solidFill>
                <a:uFillTx/>
                <a:latin typeface="Arial"/>
              </a:rPr>
              <a:t>Transport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ies struggled to provide adequate transi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313ff"/>
                </a:solidFill>
                <a:uFillTx/>
                <a:latin typeface="Arial"/>
              </a:rPr>
              <a:t>Water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Without safe drinking water  cholera and typhoid fever was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313ff"/>
                </a:solidFill>
                <a:uFillTx/>
                <a:latin typeface="Arial"/>
              </a:rPr>
              <a:t>Crim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s populations increased thieves flour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313ff"/>
                </a:solidFill>
                <a:uFillTx/>
                <a:latin typeface="Arial"/>
              </a:rPr>
              <a:t>Fir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Limited water supply and wooden structures combined with the use of candles led to many major urban fires – Chicago 1871 and San Francisco 1906 were two major f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chicago-fire"/>
          <p:cNvPicPr/>
          <p:nvPr/>
        </p:nvPicPr>
        <p:blipFill>
          <a:blip r:embed="rId1"/>
          <a:stretch/>
        </p:blipFill>
        <p:spPr>
          <a:xfrm>
            <a:off x="304920" y="1828800"/>
            <a:ext cx="4267080" cy="37339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8"/>
          <p:cNvSpPr/>
          <p:nvPr/>
        </p:nvSpPr>
        <p:spPr>
          <a:xfrm>
            <a:off x="304920" y="563868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per’s Weekly image of Chicagoans fleeing the fire over the Randolph Street bridge in 18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PHOTOGRAPHER JACOB RIIS CAPTURED IMAGES OF THE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riis1"/>
          <p:cNvPicPr/>
          <p:nvPr/>
        </p:nvPicPr>
        <p:blipFill>
          <a:blip r:embed="rId1"/>
          <a:stretch/>
        </p:blipFill>
        <p:spPr>
          <a:xfrm>
            <a:off x="2411280" y="1523880"/>
            <a:ext cx="4446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313ff"/>
                </a:solidFill>
                <a:latin typeface="Arial"/>
              </a:rPr>
              <a:t>SECTION 1:THE NEW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ff"/>
                </a:solidFill>
                <a:latin typeface="Arial"/>
              </a:rPr>
              <a:t>Millions of immigra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tered the U.S. in the late 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early 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came to  escape difficult conditions, others known as </a:t>
            </a:r>
            <a:r>
              <a:rPr b="1" lang="en-US" sz="2800" spc="-1" strike="noStrike">
                <a:solidFill>
                  <a:srgbClr val="1313ff"/>
                </a:solidFill>
                <a:latin typeface="Arial"/>
              </a:rPr>
              <a:t>“birds of passage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ended to stay only temporarily to earn money, and then return to their hom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birds of passage"/>
          <p:cNvPicPr/>
          <p:nvPr/>
        </p:nvPicPr>
        <p:blipFill>
          <a:blip r:embed="rId1"/>
          <a:stretch/>
        </p:blipFill>
        <p:spPr>
          <a:xfrm>
            <a:off x="4876920" y="1752480"/>
            <a:ext cx="4114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riisportrait"/>
          <p:cNvPicPr/>
          <p:nvPr/>
        </p:nvPicPr>
        <p:blipFill>
          <a:blip r:embed="rId1"/>
          <a:stretch/>
        </p:blipFill>
        <p:spPr>
          <a:xfrm>
            <a:off x="1447920" y="1177920"/>
            <a:ext cx="6324480" cy="4638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586728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cob Ri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riis12"/>
          <p:cNvPicPr/>
          <p:nvPr/>
        </p:nvPicPr>
        <p:blipFill>
          <a:blip r:embed="rId1"/>
          <a:stretch/>
        </p:blipFill>
        <p:spPr>
          <a:xfrm>
            <a:off x="1905120" y="1081080"/>
            <a:ext cx="5486400" cy="49388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5943600" y="6172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cob Ri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riis3"/>
          <p:cNvPicPr/>
          <p:nvPr/>
        </p:nvPicPr>
        <p:blipFill>
          <a:blip r:embed="rId1"/>
          <a:stretch/>
        </p:blipFill>
        <p:spPr>
          <a:xfrm>
            <a:off x="1828800" y="1025640"/>
            <a:ext cx="5257800" cy="51465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5257800" y="632448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5486400" y="6248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cob Ri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riis5"/>
          <p:cNvPicPr/>
          <p:nvPr/>
        </p:nvPicPr>
        <p:blipFill>
          <a:blip r:embed="rId1"/>
          <a:stretch/>
        </p:blipFill>
        <p:spPr>
          <a:xfrm>
            <a:off x="1981080" y="1239840"/>
            <a:ext cx="4953240" cy="47116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525780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cob Ri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Riis_StreetArabs1"/>
          <p:cNvPicPr/>
          <p:nvPr/>
        </p:nvPicPr>
        <p:blipFill>
          <a:blip r:embed="rId1"/>
          <a:stretch/>
        </p:blipFill>
        <p:spPr>
          <a:xfrm>
            <a:off x="1752480" y="1203480"/>
            <a:ext cx="5639040" cy="47354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5943600" y="6019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cob Ri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RiisBanditsRoost"/>
          <p:cNvPicPr/>
          <p:nvPr/>
        </p:nvPicPr>
        <p:blipFill>
          <a:blip r:embed="rId1"/>
          <a:stretch/>
        </p:blipFill>
        <p:spPr>
          <a:xfrm>
            <a:off x="1905120" y="909720"/>
            <a:ext cx="5181480" cy="5111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5486400" y="6095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cob Ri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313ff"/>
                </a:solidFill>
                <a:latin typeface="Arial"/>
              </a:rPr>
              <a:t>REFORMERS MOBILIZ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cob Riis was a reformer who through his pictures hoped for change– he influenced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Social Gospel Mov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eached salvation through service to the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reformers established </a:t>
            </a: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Settlement Ho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homes provided a place to stay, classes, health care and other soci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Jane Addam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 the most famous member of the Settlement Movement (founded </a:t>
            </a: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Hull Hou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Chica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addams"/>
          <p:cNvPicPr/>
          <p:nvPr/>
        </p:nvPicPr>
        <p:blipFill>
          <a:blip r:embed="rId1"/>
          <a:stretch/>
        </p:blipFill>
        <p:spPr>
          <a:xfrm>
            <a:off x="4648320" y="1447920"/>
            <a:ext cx="2590560" cy="3047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hull house"/>
          <p:cNvPicPr/>
          <p:nvPr/>
        </p:nvPicPr>
        <p:blipFill>
          <a:blip r:embed="rId2"/>
          <a:stretch/>
        </p:blipFill>
        <p:spPr>
          <a:xfrm>
            <a:off x="5486400" y="4267080"/>
            <a:ext cx="3352680" cy="23497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8"/>
          <p:cNvSpPr/>
          <p:nvPr/>
        </p:nvSpPr>
        <p:spPr>
          <a:xfrm>
            <a:off x="7391520" y="2133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ne Addams and Hull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313ff"/>
                </a:solidFill>
                <a:latin typeface="Arial"/>
              </a:rPr>
              <a:t>SECTION 3: POLITICS IN THE GILDED A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cities grew in the late 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entury, so did </a:t>
            </a:r>
            <a:r>
              <a:rPr b="1" lang="en-US" sz="2800" spc="-1" strike="noStrike">
                <a:solidFill>
                  <a:srgbClr val="1313ff"/>
                </a:solidFill>
                <a:latin typeface="Arial"/>
              </a:rPr>
              <a:t>political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al machines controlled the activities of a political party in a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d bosses, precinct captains, and the city boss worked to ensure their candidate was el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boss tweed"/>
          <p:cNvPicPr/>
          <p:nvPr/>
        </p:nvPicPr>
        <p:blipFill>
          <a:blip r:embed="rId1"/>
          <a:stretch/>
        </p:blipFill>
        <p:spPr>
          <a:xfrm>
            <a:off x="380880" y="1600200"/>
            <a:ext cx="4270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313ff"/>
                </a:solidFill>
                <a:latin typeface="Arial"/>
              </a:rPr>
              <a:t>ROLE OF THE POLITICAL BO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191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The “Boss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typically the mayor) controlled jobs, business licenses, and influenced the cou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nct captains and ward bosses were often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 immigrants so they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helped immigra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naturalization, jobs, and housing in exchange for vo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5" descr="boss_1_e"/>
          <p:cNvPicPr/>
          <p:nvPr/>
        </p:nvPicPr>
        <p:blipFill>
          <a:blip r:embed="rId1"/>
          <a:stretch/>
        </p:blipFill>
        <p:spPr>
          <a:xfrm>
            <a:off x="4648320" y="1825560"/>
            <a:ext cx="4038480" cy="40784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6"/>
          <p:cNvSpPr/>
          <p:nvPr/>
        </p:nvSpPr>
        <p:spPr>
          <a:xfrm>
            <a:off x="525780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ss Tweed ran NY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313ff"/>
                </a:solidFill>
                <a:latin typeface="Arial"/>
              </a:rPr>
              <a:t>MUNICIPAL GRAFT AND SCAND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95680" y="1447560"/>
            <a:ext cx="4648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political bosses were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corru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political machines used fake names and voted multiple times to ensure victory (“Vote early and often”) – called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Election fr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Graft (bribe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common among political 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 contracts often resulted in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“kick-back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ct that police forces were hired by the boss prevented close scru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election fraud"/>
          <p:cNvPicPr/>
          <p:nvPr/>
        </p:nvPicPr>
        <p:blipFill>
          <a:blip r:embed="rId1"/>
          <a:stretch/>
        </p:blipFill>
        <p:spPr>
          <a:xfrm>
            <a:off x="976320" y="2133720"/>
            <a:ext cx="2795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1313ff"/>
                </a:solidFill>
                <a:latin typeface="Arial"/>
              </a:rPr>
              <a:t>EUROPEAN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1870 and 1920, about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20 million Europe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rived in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1890, most were from western and north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1890, most came from southern and ea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were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looking for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mmigrants2"/>
          <p:cNvPicPr/>
          <p:nvPr/>
        </p:nvPicPr>
        <p:blipFill>
          <a:blip r:embed="rId1"/>
          <a:stretch/>
        </p:blipFill>
        <p:spPr>
          <a:xfrm>
            <a:off x="384120" y="1828800"/>
            <a:ext cx="4111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313ff"/>
                </a:solidFill>
                <a:latin typeface="Arial"/>
              </a:rPr>
              <a:t>THE TWEED RING SCAND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iam M. Tweed, known as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Boss Twe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ecame head of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Tammany H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YC’s powerful Democratic political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1869-1871, Tweed led the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Tweed 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 group of corrupt politicians, in defrauding th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eed was indicted on 120 counts of fraud and ex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eed was sentenced to 12 years in jail – released after one, arrested again, and escaped to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boss t"/>
          <p:cNvPicPr/>
          <p:nvPr/>
        </p:nvPicPr>
        <p:blipFill>
          <a:blip r:embed="rId1"/>
          <a:stretch/>
        </p:blipFill>
        <p:spPr>
          <a:xfrm>
            <a:off x="4800600" y="1523880"/>
            <a:ext cx="2630520" cy="2667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tweed"/>
          <p:cNvPicPr/>
          <p:nvPr/>
        </p:nvPicPr>
        <p:blipFill>
          <a:blip r:embed="rId2"/>
          <a:stretch/>
        </p:blipFill>
        <p:spPr>
          <a:xfrm>
            <a:off x="6391440" y="4267080"/>
            <a:ext cx="2217600" cy="23623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3"/>
          <p:cNvSpPr/>
          <p:nvPr/>
        </p:nvSpPr>
        <p:spPr>
          <a:xfrm>
            <a:off x="7391520" y="3657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ss Tw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313ff"/>
                </a:solidFill>
                <a:latin typeface="Arial"/>
              </a:rPr>
              <a:t>CIVIL SERVICE REPLACES PATRONA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ly, some politicians </a:t>
            </a: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pushed for refor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hiring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ystem had been based on </a:t>
            </a:r>
            <a:r>
              <a:rPr b="1" i="1" lang="en-US" sz="2000" spc="-1" strike="noStrike">
                <a:solidFill>
                  <a:srgbClr val="1313ff"/>
                </a:solidFill>
                <a:latin typeface="Arial"/>
              </a:rPr>
              <a:t>Patronag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ing jobs and favors to those who helped a candidate get 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ormers pushed for an adoption of a merit system of hiring the most qualified for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ff"/>
                </a:solidFill>
                <a:latin typeface="Arial"/>
              </a:rPr>
              <a:t>The Pendleton Civil Service Act of 188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uthorized a bipartisan commission to make appointments for federal jobs based on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civil service exams"/>
          <p:cNvPicPr/>
          <p:nvPr/>
        </p:nvPicPr>
        <p:blipFill>
          <a:blip r:embed="rId1"/>
          <a:stretch/>
        </p:blipFill>
        <p:spPr>
          <a:xfrm>
            <a:off x="882720" y="1600200"/>
            <a:ext cx="3155760" cy="41911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914400" y="57913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nts for federal jobs are required to take a Civil Service Ex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1313ff"/>
                </a:solidFill>
                <a:latin typeface="Arial"/>
              </a:rPr>
              <a:t>CHINESE</a:t>
            </a:r>
            <a:r>
              <a:rPr b="1" lang="en-US" sz="6200" spc="-1" strike="noStrike">
                <a:solidFill>
                  <a:srgbClr val="1313ff"/>
                </a:solidFill>
                <a:latin typeface="Arial"/>
              </a:rPr>
              <a:t>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ween 1851 and 1882, about </a:t>
            </a:r>
            <a:r>
              <a:rPr b="1" lang="en-US" sz="2800" spc="-1" strike="noStrike">
                <a:solidFill>
                  <a:srgbClr val="1313ff"/>
                </a:solidFill>
                <a:latin typeface="Arial"/>
              </a:rPr>
              <a:t>300,000 Chine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rived on the West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were attracted by the Gold Rush, others went to work for the railroads, farmed or worked as domestic serv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ff"/>
                </a:solidFill>
                <a:latin typeface="Arial"/>
              </a:rPr>
              <a:t>An anti-Chinese immigration 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y Congress curtailed immigration after 18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chinese"/>
          <p:cNvPicPr/>
          <p:nvPr/>
        </p:nvPicPr>
        <p:blipFill>
          <a:blip r:embed="rId1"/>
          <a:stretch/>
        </p:blipFill>
        <p:spPr>
          <a:xfrm>
            <a:off x="4986360" y="1752480"/>
            <a:ext cx="3333600" cy="4038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5257800" y="5867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Chinese men worked for the railr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1313ff"/>
                </a:solidFill>
                <a:latin typeface="Arial"/>
              </a:rPr>
              <a:t>JAPANES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523520"/>
            <a:ext cx="4190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884, the Japanese government allowed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Hawaiian plan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recruit Japanes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.S. annexation of Hawaii in 1898 increased Japanese immigration to the west 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1920, more than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200,000 Japane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ved on the west 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japanese 5"/>
          <p:cNvPicPr/>
          <p:nvPr/>
        </p:nvPicPr>
        <p:blipFill>
          <a:blip r:embed="rId1"/>
          <a:stretch/>
        </p:blipFill>
        <p:spPr>
          <a:xfrm>
            <a:off x="658800" y="1600200"/>
            <a:ext cx="3554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313ff"/>
                </a:solidFill>
                <a:latin typeface="Arial"/>
              </a:rPr>
              <a:t>THE WEST INDIES AND MEX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1880 and 1920, about 260,000 immigrants arrived in the eastern and southeastern United States form the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West In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came from Jamaica, Cuba, Puerto Rico, and other i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Mexicans, too, immigra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U.S. to find work and flee political turmoil – 700,000 Mexicans arrived in the early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cuba"/>
          <p:cNvPicPr/>
          <p:nvPr/>
        </p:nvPicPr>
        <p:blipFill>
          <a:blip r:embed="rId1"/>
          <a:stretch/>
        </p:blipFill>
        <p:spPr>
          <a:xfrm>
            <a:off x="4724280" y="1600200"/>
            <a:ext cx="4038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313ff"/>
                </a:solidFill>
                <a:latin typeface="Arial"/>
              </a:rPr>
              <a:t>LIFE IN THE NEW LAN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ate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 most immigrants arrived via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b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p from Europe  took about a month, while it took about 3 weeks  from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trip was ardu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many died alo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 was Ellis Island for Europeans, and Angel Island for A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immigrants88"/>
          <p:cNvPicPr/>
          <p:nvPr/>
        </p:nvPicPr>
        <p:blipFill>
          <a:blip r:embed="rId1"/>
          <a:stretch/>
        </p:blipFill>
        <p:spPr>
          <a:xfrm>
            <a:off x="534960" y="1523880"/>
            <a:ext cx="3854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313ff"/>
                </a:solidFill>
                <a:latin typeface="Arial"/>
              </a:rPr>
              <a:t>ELLIS ISLAND, NEW YORK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lis Island was the arrival point for European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immi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had to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pass insp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the immigration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ing took hours, and the sick were sent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migrants also had to show that they were not criminals, ha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ey ($25), and were abl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1892-1924, </a:t>
            </a:r>
            <a:r>
              <a:rPr b="1" lang="en-US" sz="2400" spc="-1" strike="noStrike">
                <a:solidFill>
                  <a:srgbClr val="1313ff"/>
                </a:solidFill>
                <a:latin typeface="Arial"/>
              </a:rPr>
              <a:t>17 mill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igrants passed through Ellis Island’s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Ellis island"/>
          <p:cNvPicPr/>
          <p:nvPr/>
        </p:nvPicPr>
        <p:blipFill>
          <a:blip r:embed="rId1"/>
          <a:stretch/>
        </p:blipFill>
        <p:spPr>
          <a:xfrm>
            <a:off x="4648320" y="1600200"/>
            <a:ext cx="4182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457200" y="6019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ELLIS ISLAND, NEW YORK HAR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ellis_island_l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2:34:38Z</dcterms:created>
  <dc:creator>Grace</dc:creator>
  <dc:description/>
  <dc:language>en-US</dc:language>
  <cp:lastModifiedBy>Grace</cp:lastModifiedBy>
  <dcterms:modified xsi:type="dcterms:W3CDTF">2016-04-26T02:39:27Z</dcterms:modified>
  <cp:revision>10</cp:revision>
  <dc:subject/>
  <dc:title>IMMIGRANTS AND URBANIZATION</dc:title>
</cp:coreProperties>
</file>